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E3C-C33A-4CAE-9B0C-CA906DFC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86A-E33B-49E9-963C-1E33E628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750-B092-467B-BA8C-2374BF4F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DEE-BAFA-473C-AD16-65E0CF9B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21E-6E27-4AB8-9AD8-CDECF9A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247-FF24-4ABC-85C7-A363AA6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86A-4261-45C5-8D6C-0BA75E9B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18F-1512-42BE-A16E-52343F75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C86-CF52-46EB-A72D-410A475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C98-2BB6-41AB-9453-6D231F3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C5D-A83B-48A4-ABA5-C825C8E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405-F60C-43E2-B53F-AB3F7AAD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D53-C1B2-43A1-8DF2-6D6FB2A0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useumsyndicate.com/item.php?item=5232" TargetMode="External"/><Relationship Id="rId2" Type="http://schemas.openxmlformats.org/officeDocument/2006/relationships/hyperlink" Target="http://www.museumsyndicate.com/item.php?item=5232" TargetMode="External"/><Relationship Id="rId3" Type="http://schemas.openxmlformats.org/officeDocument/2006/relationships/hyperlink" Target="http://www.museumsyndicate.com/item.php?item=5232" TargetMode="External"/><Relationship Id="rId4" Type="http://schemas.openxmlformats.org/officeDocument/2006/relationships/hyperlink" Target="http://www.museumsyndicate.com/item.php?item=5232" TargetMode="External"/><Relationship Id="rId5" Type="http://schemas.openxmlformats.org/officeDocument/2006/relationships/hyperlink" Target="http://www.museumsyndicate.com/item.php?item=5232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to Accompan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rehension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61840" y="60958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Holly Dai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utting this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for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o Players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store.encore-editions.com/ gift/pippin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1500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. Prejudice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useumsyndicate.com/item.php?item=52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6880" y="2000160"/>
            <a:ext cx="3756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irl Asleep” by Jan Verme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globalgallery.com/ enlarge/8141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4769"/>
          <a:stretch/>
        </p:blipFill>
        <p:spPr>
          <a:xfrm>
            <a:off x="2133720" y="1371600"/>
            <a:ext cx="5079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Girl Reading a Letter at an Open Window” by Jan Vermeer</a:t>
            </a:r>
            <a:br>
              <a:rPr sz="37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http://www.mystudios.com/vermeer/6/vermeer-girl-reading-let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818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irl with the Pearl Earring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Jan Verme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http://commons.wikimedia.org/wiki/Commons:Featured_picture_candidates/Image:Johannes_Vermeer_(1632-1675)_-_The_Girl_With_The_Pearl_Earring_(1665)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511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ve Letter” by Jan Vermeer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l.ket.org/webmuseum/wm/paint/auth/verme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1479600"/>
            <a:ext cx="4662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ild’s Bath” by Mary Cassat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artic.edu/artaccess/AA_Impressionist/pages/IMP_6.shtml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76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fast in Bed” by Mary Cassat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mystudios.com/women/abcde/cassatt-breakfast-189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ng Mother” by Mary Cassatt 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metmuseum.org/toah/hd/cast/ho_29.100.4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Opera” by Mary Cassatt 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abcgallery.com/C/cassatt/cassatt2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11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Dive” by Norman Rockwell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400" spc="-1" strike="noStrike" u="sng">
                <a:solidFill>
                  <a:srgbClr val="001ac5"/>
                </a:solidFill>
                <a:uFillTx/>
                <a:latin typeface="Arial"/>
              </a:rPr>
              <a:t>www.globalgallery.com/ enlarge/6098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52680" y="998640"/>
            <a:ext cx="387684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man in a Loge” by Mary Cassatt 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abcgallery.com/C/cassatt/cassatt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3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” by Mary Cassat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en.wikipedia.org/wiki/Mary_Cass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155600"/>
            <a:ext cx="815328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igrant Mother” by Dorothea Lange</a:t>
            </a:r>
            <a:br>
              <a:rPr sz="4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cweb2.loc.gov/cgi-bin/query/i?pp/fsaall:@filreq(@field(NUMBER+@band(fsa+8b29516))+@field(COLLID+fsa)):displayType=1:m856sd=fsa:m856s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287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bama Farm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Dorothea Lange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ontent.cdlib.org/ark:/13030/ft1b69n4r0/?layout=metadata&amp;brand=o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6798" r="4817" b="4818"/>
          <a:stretch/>
        </p:blipFill>
        <p:spPr>
          <a:xfrm>
            <a:off x="1143000" y="2097000"/>
            <a:ext cx="6705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less Family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Dorothea Lange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mageenvision.com/free_picture/0003-0701-0621-020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46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bank Gas Station” by Dorothea Lange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asters-of-photography.com/L/lange/lange_gas_s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2201760"/>
            <a:ext cx="5791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e Jones’s Hands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Dorothea Lange</a:t>
            </a:r>
            <a:br>
              <a:rPr sz="44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images.google.com/imgres?imgurl=http://content.cdlib.org/ark:/13030/ft7489n8zk/hi-res&amp;imgrefurl=http://content.cdlib.org/ark:/13030/ft7489n8zk%26brand%3Doac/&amp;usg=__7cBY7lAAloVanJsa2rknGKgf1KY=&amp;h=462&amp;w=616&amp;sz=48&amp;hl=en&amp;start=1&amp;um=1&amp;tbnid=8nLVX4uW90pa8M:&amp;tbnh=102&amp;tbnw=136&amp;prev=/images%3Fq%3Djake%2Bjones%2527s%2Bhands%2Bby%2Bdorothea%2Blange%26hl%3Den%26client%3Dsafari%26rls%3Den-us%26um%3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2230560"/>
            <a:ext cx="61722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tructures by I.M. Pei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buildings/Bank_of_Chin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6400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of China Tower,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2905200" cy="426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2281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 Wing of the National Gallery, Washington D.C.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buildings/East_Wing_National_Galler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cock Place, Boston, Mass.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Hancock_Plac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141800" cy="556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in the Life of a Boy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Norman Rockwell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greatmodernpictures.com/ pbase1.ht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522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Javits Convention Center, New York, NY</a:t>
            </a:r>
            <a:br>
              <a:rPr sz="3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Javits_Convention_Cent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93920" y="1143000"/>
            <a:ext cx="4560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 Museum of Art, Ithaca, NY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Johnson_Museum_of_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03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ational Center for Atmospheric Research -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ulder, Colorado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N_Center_for_Atmos_Researc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73915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yramide du Louvre - Paris, Fr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Pyramide_du_Louv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and Roll Hall of F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veland, Ohio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reatBuildings.com/cgi-bin/gbi.cgi/Rock_and_Roll_Hall_of_Fam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652760"/>
            <a:ext cx="69343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ay in the Life of a Girl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Norman Rockwell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http://www.normanrockwellvt.com/giclee_day_in_life_gir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4879" t="6061" r="5625" b="4549"/>
          <a:stretch/>
        </p:blipFill>
        <p:spPr>
          <a:xfrm>
            <a:off x="2362320" y="1905120"/>
            <a:ext cx="4616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prise” by Norman Rockwell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watsonswildlife.com/.../ index.htm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722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Morning Breakfast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useumsyndicat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/ item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hp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?item=5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676520" y="1866960"/>
            <a:ext cx="62481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Chester” 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600" spc="-1" strike="noStrike" u="sng">
                <a:solidFill>
                  <a:srgbClr val="001ac5"/>
                </a:solidFill>
                <a:uFillTx/>
                <a:latin typeface="Arial"/>
              </a:rPr>
              <a:t>www.pafa.org/.../ PageIndex__2/colId__704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652760"/>
            <a:ext cx="66294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Through Ice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Horace Pippin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rices4antiques.com/paintings/oil-on-board/Pippin-Horace-Oil-on-Wood-Board-signed-Fishing-Through-Ice-D996953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2255760"/>
            <a:ext cx="55627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sh” by Horace Pippin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useumsyndicate.com/item.php?item=52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1476360"/>
            <a:ext cx="70106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1:56:44Z</dcterms:created>
  <dc:creator>Edgewood User</dc:creator>
  <dc:description/>
  <dc:language>en-US</dc:language>
  <cp:lastModifiedBy>Edgewood User</cp:lastModifiedBy>
  <dcterms:modified xsi:type="dcterms:W3CDTF">2009-08-31T16:43:32Z</dcterms:modified>
  <cp:revision>8</cp:revision>
  <dc:subject/>
  <dc:title>Artwork to Accompany Comprehension Connections</dc:title>
</cp:coreProperties>
</file>